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22320"/>
            <a:ext cx="9144000" cy="129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08240"/>
            <a:ext cx="9144000" cy="0"/>
          </a:xfrm>
          <a:prstGeom prst="line">
            <a:avLst/>
          </a:prstGeom>
          <a:ln cap="sq"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5715000" y="409680"/>
            <a:ext cx="3075120" cy="6951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>
            <a:lum contrast="-12000"/>
          </a:blip>
          <a:stretch/>
        </p:blipFill>
        <p:spPr>
          <a:xfrm>
            <a:off x="152280" y="266760"/>
            <a:ext cx="4587840" cy="10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3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75960" y="2209680"/>
            <a:ext cx="7252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cc"/>
                </a:solidFill>
                <a:latin typeface="RotisSansSerif"/>
              </a:rPr>
              <a:t>¿POR QUÉ SE COMPRAN </a:t>
            </a:r>
            <a:br>
              <a:rPr sz="4800"/>
            </a:br>
            <a:r>
              <a:rPr b="0" lang="es-ES_tradnl" sz="4800" spc="-1" strike="noStrike">
                <a:solidFill>
                  <a:srgbClr val="ffffcc"/>
                </a:solidFill>
                <a:latin typeface="RotisSansSerif"/>
              </a:rPr>
              <a:t>Y SE VENDEN</a:t>
            </a:r>
            <a:br>
              <a:rPr sz="4800"/>
            </a:br>
            <a:r>
              <a:rPr b="0" lang="es-ES_tradnl" sz="4800" spc="-1" strike="noStrike">
                <a:solidFill>
                  <a:srgbClr val="ffffcc"/>
                </a:solidFill>
                <a:latin typeface="RotisSansSerif"/>
              </a:rPr>
              <a:t>LAS EMPRESAS</a:t>
            </a:r>
            <a:br>
              <a:rPr sz="4800"/>
            </a:br>
            <a:r>
              <a:rPr b="0" lang="es-ES_tradnl" sz="4800" spc="-1" strike="noStrike">
                <a:solidFill>
                  <a:srgbClr val="ffffcc"/>
                </a:solidFill>
                <a:latin typeface="RotisSansSerif"/>
              </a:rPr>
              <a:t>EN ESPAÑA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1600" y="5943600"/>
            <a:ext cx="44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adrid, 5 de Diciembre de 2.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2057400" y="609480"/>
            <a:ext cx="4587840" cy="1005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3344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75248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75248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75248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a5c3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acc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1295280"/>
            <a:ext cx="7924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RotisSansSerif"/>
              </a:rPr>
              <a:t>Por sectores económicos: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1828800"/>
          <a:ext cx="80010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010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acc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440" y="29718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1. Valoración objetiv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2. Asesoramiento de especialistas en M&amp;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3. Agilidad en la negociaci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4. Disponibilidad de la direcció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920" y="1676520"/>
            <a:ext cx="7566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RotisSansSerif"/>
              </a:rPr>
              <a:t>Factores que contribuyen al éxito de una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RotisSansSerif"/>
              </a:rPr>
              <a:t>operación: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acc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160" y="29718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1. No entender el negoc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2. Demasiada implicación de la dirección en el “día a día” de la negociació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3. Ignorar a los clientes, proveedores y emplead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0200" y="1676520"/>
            <a:ext cx="79941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RotisSansSerif"/>
              </a:rPr>
              <a:t>Factores que contribuyen al fracaso de una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RotisSansSerif"/>
              </a:rPr>
              <a:t>operación: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acc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760" y="1447920"/>
            <a:ext cx="4347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RotisSansSerif"/>
              </a:rPr>
              <a:t>Otros datos relevantes: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666880"/>
            <a:ext cx="7696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97180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289548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23440" y="2133720"/>
            <a:ext cx="8620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El 60% de las empresas con una facturación bruta superior a 15.000 millones considera muy probable que compren en el futu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El 83% de las empresas de informática y telecomunicaciones tienen intención de compr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El 58% de las empresas familiares van a seguir compran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Los mejores resultados en desinversiones los obtienen empresas de menos de 250 trabajado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acc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752480"/>
            <a:ext cx="678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RotisSansSerif"/>
              </a:rPr>
              <a:t>En España se compran empresas para: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0481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20000"/>
              </a:lnSpc>
              <a:spcBef>
                <a:spcPts val="1925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1.  Perseguir el liderazgo del sect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657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2.  Crear valor para el accionis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87692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4.  Obtener sinergias productiv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2670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3.  Aumentar la cuota de merc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4864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5.  Aumentar la rentabilid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acc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3047760"/>
            <a:ext cx="8797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1.  Dilución participación de algún accionist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     no dese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2.  Motivos person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3.  Defensa ante posibles adquisiciones hosti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4.  Aumentar la capacidad de endeudamie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5.  Invertir el exceso de liquidez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24952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752480"/>
            <a:ext cx="6103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RotisSansSerif"/>
              </a:rPr>
              <a:t>Motivos más irrelevantes para comprar empresas: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acc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09120" y="28195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3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1.  Creación de valor para el accionis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2.  Mejorar la gestión de la empresa adquiri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3.  Aumentar la cuota de merc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4.  Aumentar la rentabil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5.  Buscar productos y servicios complementari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3440" y="1981080"/>
            <a:ext cx="874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RotisSansSerif"/>
              </a:rPr>
              <a:t>Motivos más rentables para comprar empresas: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acc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1.  Motivos personales de la dirección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 destruye val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2.  Dilución de la participación de algún accionist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 destruye val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3.  Motivos defensiv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4.  Aumento de la capacidad de endeudamie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5.  Necesidad de dimensionar la plantil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8640" y="1370160"/>
            <a:ext cx="8709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RotisSansSerif"/>
              </a:rPr>
              <a:t>Motivos menos rentables al comprar empresas: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acc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23440" y="2819160"/>
            <a:ext cx="8620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1.  Concentrarse en la actividad princip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2.  Crear valor para el accionis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3.  Efectuar un realineamiento estratégi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4.  Obtener financiación para nuevos proyect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5.  Motivos fisc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720" y="1870200"/>
            <a:ext cx="774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RotisSansSerif"/>
              </a:rPr>
              <a:t>¿Por qué se venden empresas en España?: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acc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8360" y="2895480"/>
            <a:ext cx="8620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1.  Dificultades sucesori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2.  Demanda de liquidez por los accionist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3.  Dificultades labor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4.  Dificultades transitorias de liquidez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5.  Disparidad de intereses y objetiv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752480"/>
            <a:ext cx="80010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RotisSansSerif"/>
              </a:rPr>
              <a:t>Motivos menos relevantes para vender empresas: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acc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23440" y="2742840"/>
            <a:ext cx="8620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1.  Creación de valor para el accionis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2.  Concentrarse en la actividad princip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3.  Efectuar un realineamiento estratégi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4.  Optimizar el uso de los recursos natur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5.  Abandonar actividades madur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3640" y="1933560"/>
            <a:ext cx="8617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RotisSansSerif"/>
              </a:rPr>
              <a:t>Motivos más rentables para realizar escisiones: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accc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99760" y="2895480"/>
            <a:ext cx="8620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1.  Demanda de liquidez por parte de los accionistas         </a:t>
            </a: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 destruye val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2.  Dificultades sucesorias en empresas famili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3.  Dificultades labor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4.  Necesidad de recursos para financiar pérdid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RotisSansSerif"/>
              </a:rPr>
              <a:t>5.  Disparidad de objetivos e intere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752480"/>
            <a:ext cx="82296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cc"/>
                </a:solidFill>
                <a:latin typeface="RotisSansSerif"/>
              </a:rPr>
              <a:t>Motivos menos rentables para vender una empresa: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05:41:32Z</dcterms:created>
  <dc:creator>Miriam</dc:creator>
  <dc:description/>
  <dc:language>en-US</dc:language>
  <cp:lastModifiedBy>Juan Mascareñas</cp:lastModifiedBy>
  <cp:lastPrinted>2000-11-16T13:56:43Z</cp:lastPrinted>
  <dcterms:modified xsi:type="dcterms:W3CDTF">2000-12-04T18:46:38Z</dcterms:modified>
  <cp:revision>27</cp:revision>
  <dc:subject/>
  <dc:title>&lt;Organización XYZ&gt;</dc:title>
</cp:coreProperties>
</file>